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34D-1A48-467E-A115-CFE04FF3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3D0-1602-4511-8010-0F1EBA4B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EB0-73D7-405B-B325-2E76BFF1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FE9-3A8E-44D2-A460-62FE1E9F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3B41-BAD4-4706-ADE5-9423C8B8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DE87-B226-4444-958A-FA34BA1E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E081-A8E5-42DD-87B9-B07B9204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284F-3740-4570-8669-371AB19B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8CAB-169F-4CB6-9D2B-87D442C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E742-1673-48FF-8012-C7BAF470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37EE-98E4-49B0-A116-69A1B17A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7E1-9160-44F7-BFE8-4C9BD8D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309E-D5BB-422E-9F90-E0339F0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BEC0-7C22-4794-A5B1-ACE9BDF7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CD30-9CDA-4CA7-AC5D-2C26A164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ECF7-9980-4E9C-AA06-EBD1C20F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A43B-EB05-45B0-B0DC-EE02AC86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2264-719B-4E45-9F62-2AE4746A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B1BA-B1D0-4D03-9A89-15F21CAA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D877-BFC4-4E99-8C2E-18CEE016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492A-8894-4ADD-BC1E-F45C300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28F8-5FDB-46B9-994C-B814B8C1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D0C-6E1F-43D5-88C6-4DC17378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B85D-8468-4FCD-895E-83971842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C6D2-CC98-4E3E-ABFB-E26E24D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C97CA-0C6F-441B-BB8C-D4D5279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66B5C-6D74-4442-A65E-67E62741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BD97-C066-4414-A120-0EF82F2E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6705-F7AD-4F09-9C58-393CF9DA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38AC-DCE4-4C5B-BB97-3FF5D7E7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23654-4C96-4745-A7E0-1BA2651D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7963-7F94-4796-9F23-7EA7B849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1E03-28A7-462F-8E25-461A2A51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B9A-D4CA-433F-994C-00042EFB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4894-7CC5-480A-865C-C0FE2BA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8D543-18A6-4227-8DB1-D41135A6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8D88-3A72-4A8A-A3DF-7392F048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21354-1316-4730-9778-7D71436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711F1-2DE2-4D07-A08D-894DA697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3013-046C-4DC7-B394-BB812EF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7DA3-441B-40DD-9B85-7533B8D3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27BA1-3B43-4893-8C11-ECB82D36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3B8B-8021-42A0-8EE6-C217EA7D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A1AD-A0DE-4476-BE90-47F017B2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EB4-801B-4DA0-A368-2C9D2CA3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B2F9-E377-454B-BC91-4E400DC0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5E710-C0C6-4A7C-BA98-02373F79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8246-82FF-4614-8761-73501A75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923FC-839E-4733-BFF2-04162F76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40F6-247C-4B71-9946-82CD0AB4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5E7B6-0393-458F-AA3D-5B54D63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DD862-3336-427C-8934-C924BC4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E869-6F27-4E66-A6F4-F609D055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25FF5-B0D1-4808-B0F4-D8A3081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1EAC7-948A-4F2A-BA66-9AAF1E04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821-790A-46B6-9740-389F152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F48A3-A71B-43FD-9EF0-3561534E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952-1378-4BA1-BBD8-01AF33E0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E3B-A3B0-4886-A640-DB949533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047-4011-4D95-8127-9BEA622E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E0AA-C509-4395-B580-43E707FFF9F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233A-932D-4CBF-A88D-9A27BE54F7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D8C1-76C3-453F-97BA-156491188C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A1B8-0A30-4373-BE6C-D90B8F1450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009-3E0B-4FE5-814E-5EDEDFE40E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sudact.ru/law/pismo-minobrnauki-rossii-ot-10022015-n-vk-26807/" TargetMode="External"/><Relationship Id="rId2" Type="http://schemas.openxmlformats.org/officeDocument/2006/relationships/hyperlink" Target="https://sudact.ru/law/pismo-minobrnauki-rossii-ot-10022015-n-vk-26807/prilozhenie/" TargetMode="External"/><Relationship Id="rId3" Type="http://schemas.openxmlformats.org/officeDocument/2006/relationships/hyperlink" Target="https://sudact.ru/law/metodicheskie-rekomendatsii-dlia-pedagogov-psikhologov-i-sotsialnykh-pedagogov_1/" TargetMode="External"/><Relationship Id="rId4" Type="http://schemas.openxmlformats.org/officeDocument/2006/relationships/hyperlink" Target="https://sudact.ru/law/metodicheskie-rekomendatsii-dlia-pedagogov-psikhologov-i-sotsialnykh-pedagogov/" TargetMode="External"/><Relationship Id="rId5" Type="http://schemas.openxmlformats.org/officeDocument/2006/relationships/hyperlink" Target="https://sudact.ru/law/rasporiazhenie-minprosveshcheniia-rossii-ot-28122020-n-r-193/#BzsOb39SIZHB" TargetMode="External"/><Relationship Id="rId6" Type="http://schemas.openxmlformats.org/officeDocument/2006/relationships/hyperlink" Target="https://sudact.ru/law/pismo-minprosveshcheniia-rossii-ot-30062021-n-07-3586/#4lwMaN1xITlv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sudact.ru/law/prikaz-minzdrava-rf-ot-14072003-n-307/" TargetMode="External"/><Relationship Id="rId2" Type="http://schemas.openxmlformats.org/officeDocument/2006/relationships/hyperlink" Target="https://sudact.ru/law/prikaz-minzdrava-rf-ot-14072003-n-307/#IeMLQHtdTOlV" TargetMode="External"/><Relationship Id="rId3" Type="http://schemas.openxmlformats.org/officeDocument/2006/relationships/hyperlink" Target="https://sudact.ru/law/prikaz-minzdrava-rossii-ot-05112013-n-822n/" TargetMode="External"/><Relationship Id="rId4" Type="http://schemas.openxmlformats.org/officeDocument/2006/relationships/hyperlink" Target="https://sudact.ru/law/pismo-minobrnauki-rossii-ot-10022015-n-vk-26807/" TargetMode="External"/><Relationship Id="rId5" Type="http://schemas.openxmlformats.org/officeDocument/2006/relationships/hyperlink" Target="https://sudact.ru/law/pismo-minobrnauki-rossii-ot-10022015-n-vk-26807/prilozhenie/" TargetMode="External"/><Relationship Id="rId6" Type="http://schemas.openxmlformats.org/officeDocument/2006/relationships/hyperlink" Target="https://sudact.ru/law/pismo-minzdrava-rossii-ot-25052017-n-15-2102-3461/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azovaniia-rf-ot-29032002-n-48328-5/" TargetMode="External"/><Relationship Id="rId3" Type="http://schemas.openxmlformats.org/officeDocument/2006/relationships/hyperlink" Target="https://sudact.ru/law/pismo-minobrnauki-rossii-ot-01122015-n-vk-296907/" TargetMode="External"/><Relationship Id="rId4" Type="http://schemas.openxmlformats.org/officeDocument/2006/relationships/hyperlink" Target="https://sudact.ru/law/pismo-minobrnauki-rossii-ot-01122015-n-vk-296907/#9aICN2LuYDVT" TargetMode="External"/><Relationship Id="rId5" Type="http://schemas.openxmlformats.org/officeDocument/2006/relationships/hyperlink" Target="https://sudact.ru/law/pismo-minobrnauki-rossii-ot-28042016-n-ak-92307/" TargetMode="External"/><Relationship Id="rId6" Type="http://schemas.openxmlformats.org/officeDocument/2006/relationships/hyperlink" Target="https://sudact.ru/law/pismo-minobrnauki-rossii-ot-28042016-n-ak-92307/#1roagdpOOzNv" TargetMode="External"/><Relationship Id="rId7" Type="http://schemas.openxmlformats.org/officeDocument/2006/relationships/hyperlink" Target="https://sudact.ru/law/pismo-minobrnauki-rossii-ot-23082017-n-ts-70207/" TargetMode="External"/><Relationship Id="rId8" Type="http://schemas.openxmlformats.org/officeDocument/2006/relationships/hyperlink" Target="https://sudact.ru/law/pismo-minobrnauki-rossii-ot-23082017-n-ts-70207/#9VXc9SYM9qUT" TargetMode="Externa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ossii-ot-27082018-n-07/" TargetMode="External"/><Relationship Id="rId3" Type="http://schemas.openxmlformats.org/officeDocument/2006/relationships/hyperlink" Target="https://sudact.ru/law/pismo-minobrnauki-rossii-ot-27082018-n-07/#GgNi09AfjtbC" TargetMode="External"/><Relationship Id="rId4" Type="http://schemas.openxmlformats.org/officeDocument/2006/relationships/hyperlink" Target="https://sudact.ru/law/pismo-minprosveshcheniia-rossii-n-07-6607-mvd-rossii/" TargetMode="External"/><Relationship Id="rId5" Type="http://schemas.openxmlformats.org/officeDocument/2006/relationships/hyperlink" Target="https://sudact.ru/law/pismo-minprosveshcheniia-rossii-n-07-6607-mvd-rossii/prilozhenie/" TargetMode="External"/><Relationship Id="rId6" Type="http://schemas.openxmlformats.org/officeDocument/2006/relationships/hyperlink" Target="https://sudact.ru/law/metodicheskie-rekomendatsii-o-tipovykh-formakh-i-poriadke/" TargetMode="External"/><Relationship Id="rId7" Type="http://schemas.openxmlformats.org/officeDocument/2006/relationships/hyperlink" Target="https://sudact.ru/law/pismo-mintruda-rossii-ot-12042022-n-26-610v-4751/" TargetMode="External"/><Relationship Id="rId8" Type="http://schemas.openxmlformats.org/officeDocument/2006/relationships/hyperlink" Target="https://sudact.ru/law/pismo-mintruda-rossii-ot-12042022-n-26-610v-4751/#NmyByIp6YGrO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ossii-ot-01122015-n-vk-296907/" TargetMode="External"/><Relationship Id="rId3" Type="http://schemas.openxmlformats.org/officeDocument/2006/relationships/hyperlink" Target="https://sudact.ru/law/pismo-minobrnauki-rossii-ot-01122015-n-vk-296907/#9aICN2LuYDVT" TargetMode="External"/><Relationship Id="rId4" Type="http://schemas.openxmlformats.org/officeDocument/2006/relationships/hyperlink" Target="https://sudact.ru/law/pismo-minobrnauki-rossii-ot-28042016-n-ak-92307/" TargetMode="External"/><Relationship Id="rId5" Type="http://schemas.openxmlformats.org/officeDocument/2006/relationships/hyperlink" Target="https://sudact.ru/law/pismo-minobrnauki-rossii-ot-28042016-n-ak-92307/#1roagdpOOzNv" TargetMode="External"/><Relationship Id="rId6" Type="http://schemas.openxmlformats.org/officeDocument/2006/relationships/hyperlink" Target="https://sudact.ru/law/pismo-minobrnauki-rossii-ot-23082017-n-ts-70207/" TargetMode="External"/><Relationship Id="rId7" Type="http://schemas.openxmlformats.org/officeDocument/2006/relationships/hyperlink" Target="https://sudact.ru/law/pismo-minobrnauki-rossii-ot-23082017-n-ts-70207/#9VXc9SYM9qUT" TargetMode="External"/><Relationship Id="rId8" Type="http://schemas.openxmlformats.org/officeDocument/2006/relationships/hyperlink" Target="https://sudact.ru/law/pismo-minobrnauki-rossii-ot-27082018-n-07/" TargetMode="External"/><Relationship Id="rId9" Type="http://schemas.openxmlformats.org/officeDocument/2006/relationships/hyperlink" Target="https://sudact.ru/law/pismo-minobrnauki-rossii-ot-27082018-n-07/#GgNi09AfjtbC" TargetMode="Externa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prosveshcheniia-rossii-n-07-6607-mvd-rossii/" TargetMode="External"/><Relationship Id="rId3" Type="http://schemas.openxmlformats.org/officeDocument/2006/relationships/hyperlink" Target="https://sudact.ru/law/pismo-minprosveshcheniia-rossii-n-07-6607-mvd-rossii/prilozhenie/" TargetMode="External"/><Relationship Id="rId4" Type="http://schemas.openxmlformats.org/officeDocument/2006/relationships/hyperlink" Target="https://sudact.ru/law/metodicheskie-rekomendatsii-o-tipovykh-formakh-i-poriadke/" TargetMode="External"/><Relationship Id="rId5" Type="http://schemas.openxmlformats.org/officeDocument/2006/relationships/hyperlink" Target="https://sudact.ru/law/pismo-mintruda-rossii-ot-12042022-n-26-610v-4751/" TargetMode="External"/><Relationship Id="rId6" Type="http://schemas.openxmlformats.org/officeDocument/2006/relationships/hyperlink" Target="https://sudact.ru/law/pismo-mintruda-rossii-ot-12042022-n-26-610v-4751/#NmyByIp6YGrO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ossii-ot-01122015-n-vk-296907/" TargetMode="External"/><Relationship Id="rId3" Type="http://schemas.openxmlformats.org/officeDocument/2006/relationships/hyperlink" Target="https://sudact.ru/law/pismo-minobrnauki-rossii-ot-01122015-n-vk-296907/#9aICN2LuYDVT" TargetMode="External"/><Relationship Id="rId4" Type="http://schemas.openxmlformats.org/officeDocument/2006/relationships/hyperlink" Target="https://sudact.ru/law/pismo-minobrnauki-rossii-ot-28042016-n-ak-92307/" TargetMode="External"/><Relationship Id="rId5" Type="http://schemas.openxmlformats.org/officeDocument/2006/relationships/hyperlink" Target="https://sudact.ru/law/pismo-minobrnauki-rossii-ot-28042016-n-ak-92307/#1roagdpOOzNv" TargetMode="External"/><Relationship Id="rId6" Type="http://schemas.openxmlformats.org/officeDocument/2006/relationships/hyperlink" Target="https://sudact.ru/law/pismo-minobrnauki-rossii-ot-23082017-n-ts-70207/" TargetMode="External"/><Relationship Id="rId7" Type="http://schemas.openxmlformats.org/officeDocument/2006/relationships/hyperlink" Target="https://sudact.ru/law/pismo-minobrnauki-rossii-ot-23082017-n-ts-70207/#9VXc9SYM9qUT" TargetMode="External"/><Relationship Id="rId8" Type="http://schemas.openxmlformats.org/officeDocument/2006/relationships/hyperlink" Target="https://sudact.ru/law/pismo-minobrnauki-rossii-ot-27082018-n-07/" TargetMode="External"/><Relationship Id="rId9" Type="http://schemas.openxmlformats.org/officeDocument/2006/relationships/hyperlink" Target="https://sudact.ru/law/pismo-minobrnauki-rossii-ot-27082018-n-07/#GgNi09AfjtbC" TargetMode="Externa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prosveshcheniia-rossii-n-07-6607-mvd-rossii/" TargetMode="External"/><Relationship Id="rId3" Type="http://schemas.openxmlformats.org/officeDocument/2006/relationships/hyperlink" Target="https://sudact.ru/law/pismo-minprosveshcheniia-rossii-n-07-6607-mvd-rossii/prilozhenie/" TargetMode="External"/><Relationship Id="rId4" Type="http://schemas.openxmlformats.org/officeDocument/2006/relationships/hyperlink" Target="https://sudact.ru/law/metodicheskie-rekomendatsii-o-tipovykh-formakh-i-poriadke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ossii-ot-01122015-n-vk-296907/" TargetMode="External"/><Relationship Id="rId3" Type="http://schemas.openxmlformats.org/officeDocument/2006/relationships/hyperlink" Target="https://sudact.ru/law/pismo-minobrnauki-rossii-ot-01122015-n-vk-296907/#9aICN2LuYDVT" TargetMode="External"/><Relationship Id="rId4" Type="http://schemas.openxmlformats.org/officeDocument/2006/relationships/hyperlink" Target="https://sudact.ru/law/pismo-minobrnauki-rossii-ot-28042016-n-ak-92307/" TargetMode="External"/><Relationship Id="rId5" Type="http://schemas.openxmlformats.org/officeDocument/2006/relationships/hyperlink" Target="https://sudact.ru/law/pismo-minobrnauki-rossii-ot-28042016-n-ak-92307/#1roagdpOOzNv" TargetMode="External"/><Relationship Id="rId6" Type="http://schemas.openxmlformats.org/officeDocument/2006/relationships/hyperlink" Target="https://sudact.ru/law/pismo-minobrnauki-rossii-ot-23082017-n-ts-70207/" TargetMode="External"/><Relationship Id="rId7" Type="http://schemas.openxmlformats.org/officeDocument/2006/relationships/hyperlink" Target="https://sudact.ru/law/pismo-minobrnauki-rossii-ot-23082017-n-ts-70207/#9VXc9SYM9qUT" TargetMode="External"/><Relationship Id="rId8" Type="http://schemas.openxmlformats.org/officeDocument/2006/relationships/hyperlink" Target="https://sudact.ru/law/pismo-minobrnauki-rossii-ot-27082018-n-07/" TargetMode="External"/><Relationship Id="rId9" Type="http://schemas.openxmlformats.org/officeDocument/2006/relationships/hyperlink" Target="https://sudact.ru/law/pismo-minobrnauki-rossii-ot-27082018-n-07/#GgNi09AfjtbC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prosveshcheniia-rossii-n-07-6607-mvd-rossii/" TargetMode="External"/><Relationship Id="rId3" Type="http://schemas.openxmlformats.org/officeDocument/2006/relationships/hyperlink" Target="https://sudact.ru/law/pismo-minprosveshcheniia-rossii-n-07-6607-mvd-rossii/prilozhenie/" TargetMode="External"/><Relationship Id="rId4" Type="http://schemas.openxmlformats.org/officeDocument/2006/relationships/hyperlink" Target="https://sudact.ru/law/metodicheskie-rekomendatsii-o-tipovykh-formakh-i-poriadke/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prosveshcheniia-rossii-n-07-6607-mvd-rossii/" TargetMode="External"/><Relationship Id="rId3" Type="http://schemas.openxmlformats.org/officeDocument/2006/relationships/hyperlink" Target="https://sudact.ru/law/pismo-minprosveshcheniia-rossii-n-07-6607-mvd-rossii/prilozhenie/" TargetMode="External"/><Relationship Id="rId4" Type="http://schemas.openxmlformats.org/officeDocument/2006/relationships/hyperlink" Target="https://sudact.ru/law/metodicheskie-rekomendatsii-o-tipovykh-formakh-i-poriadke/" TargetMode="Externa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ossii-ot-01122015-n-vk-296907/" TargetMode="External"/><Relationship Id="rId3" Type="http://schemas.openxmlformats.org/officeDocument/2006/relationships/hyperlink" Target="https://sudact.ru/law/pismo-minobrnauki-rossii-ot-01122015-n-vk-296907/#9aICN2LuYDVT" TargetMode="External"/><Relationship Id="rId4" Type="http://schemas.openxmlformats.org/officeDocument/2006/relationships/hyperlink" Target="https://sudact.ru/law/pismo-minobrnauki-rossii-ot-28042016-n-ak-92307/" TargetMode="External"/><Relationship Id="rId5" Type="http://schemas.openxmlformats.org/officeDocument/2006/relationships/hyperlink" Target="https://sudact.ru/law/pismo-minobrnauki-rossii-ot-28042016-n-ak-92307/#1roagdpOOzNv" TargetMode="External"/><Relationship Id="rId6" Type="http://schemas.openxmlformats.org/officeDocument/2006/relationships/hyperlink" Target="https://sudact.ru/law/pismo-minobrnauki-rossii-ot-28072016-n-07-3188/" TargetMode="External"/><Relationship Id="rId7" Type="http://schemas.openxmlformats.org/officeDocument/2006/relationships/hyperlink" Target="https://sudact.ru/law/pismo-minobrnauki-rossii-ot-28072016-n-07-3188/metodicheskie-rekomendatsii-po-mezhvedomstvennomu-vzaimodeistviiu/" TargetMode="External"/><Relationship Id="rId8" Type="http://schemas.openxmlformats.org/officeDocument/2006/relationships/hyperlink" Target="https://sudact.ru/law/pismo-minobrnauki-rossii-ot-23082017-n-ts-70207/" TargetMode="External"/><Relationship Id="rId9" Type="http://schemas.openxmlformats.org/officeDocument/2006/relationships/hyperlink" Target="https://sudact.ru/law/pismo-minobrnauki-rossii-ot-23082017-n-ts-70207/#9VXc9SYM9qUT" TargetMode="External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ossii-ot-27082018-n-07/" TargetMode="External"/><Relationship Id="rId3" Type="http://schemas.openxmlformats.org/officeDocument/2006/relationships/hyperlink" Target="https://sudact.ru/law/pismo-minobrnauki-rossii-ot-27082018-n-07/#GgNi09AfjtbC" TargetMode="External"/><Relationship Id="rId4" Type="http://schemas.openxmlformats.org/officeDocument/2006/relationships/hyperlink" Target="https://sudact.ru/law/metodicheskie-rekomendatsii-o-tipovykh-formakh-i-poriadke/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ossii-ot-27082018-n-07/" TargetMode="External"/><Relationship Id="rId3" Type="http://schemas.openxmlformats.org/officeDocument/2006/relationships/hyperlink" Target="https://sudact.ru/law/pismo-minobrnauki-rossii-ot-27082018-n-07/#GgNi09AfjtbC" TargetMode="External"/><Relationship Id="rId4" Type="http://schemas.openxmlformats.org/officeDocument/2006/relationships/hyperlink" Target="https://sudact.ru/law/metodicheskie-rekomendatsii-o-tipovykh-formakh-i-poriadke/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ossii-ot-18012016-n-07-149/" TargetMode="External"/><Relationship Id="rId3" Type="http://schemas.openxmlformats.org/officeDocument/2006/relationships/hyperlink" Target="https://sudact.ru/law/pismo-minobrnauki-rossii-ot-28042016-n-ak-92307/" TargetMode="External"/><Relationship Id="rId4" Type="http://schemas.openxmlformats.org/officeDocument/2006/relationships/hyperlink" Target="https://sudact.ru/law/pismo-minobrnauki-rossii-ot-28042016-n-ak-92307/#1roagdpOOzNv" TargetMode="External"/><Relationship Id="rId5" Type="http://schemas.openxmlformats.org/officeDocument/2006/relationships/hyperlink" Target="https://sudact.ru/law/pismo-minobrnauki-rossii-ot-31032017-n-vk-106507/" TargetMode="External"/><Relationship Id="rId6" Type="http://schemas.openxmlformats.org/officeDocument/2006/relationships/hyperlink" Target="https://sudact.ru/law/pismo-minobrnauki-rossii-ot-28042018-n-07-2498/" TargetMode="External"/><Relationship Id="rId7" Type="http://schemas.openxmlformats.org/officeDocument/2006/relationships/hyperlink" Target="https://sudact.ru/law/metodicheskie-rekomendatsii-dlia-pedagogov-psikhologov-i-sotsialnykh-pedagogov_1/" TargetMode="External"/><Relationship Id="rId8" Type="http://schemas.openxmlformats.org/officeDocument/2006/relationships/hyperlink" Target="https://sudact.ru/law/pismo-minobrnauki-rossii-ot-28042018-n-07-2498/" TargetMode="External"/><Relationship Id="rId9" Type="http://schemas.openxmlformats.org/officeDocument/2006/relationships/hyperlink" Target="https://sudact.ru/law/metodicheskie-rekomendatsii-dlia-pedagogov-psikhologov-i-sotsialnykh-pedagogov/" TargetMode="External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prosveshcheniia-rossii-ot-30092020-n-07-5864/" TargetMode="External"/><Relationship Id="rId3" Type="http://schemas.openxmlformats.org/officeDocument/2006/relationships/hyperlink" Target="https://sudact.ru/law/pismo-minprosveshcheniia-rossii-ot-30092020-n-07-5864/prilozhenie/" TargetMode="External"/><Relationship Id="rId4" Type="http://schemas.openxmlformats.org/officeDocument/2006/relationships/hyperlink" Target="https://sudact.ru/law/pismo-minprosveshcheniia-rossii-ot-30102020-n-07-6586/" TargetMode="External"/><Relationship Id="rId5" Type="http://schemas.openxmlformats.org/officeDocument/2006/relationships/hyperlink" Target="https://sudact.ru/law/pismo-minprosveshcheniia-rossii-ot-30102020-n-07-6586/prilozhenie/" TargetMode="External"/><Relationship Id="rId6" Type="http://schemas.openxmlformats.org/officeDocument/2006/relationships/hyperlink" Target="https://sudact.ru/law/pismo-minprosveshcheniia-rossii-n-07-6607-mvd-rossii/" TargetMode="External"/><Relationship Id="rId7" Type="http://schemas.openxmlformats.org/officeDocument/2006/relationships/hyperlink" Target="https://sudact.ru/law/pismo-minprosveshcheniia-rossii-n-07-6607-mvd-rossii/prilozhenie/" TargetMode="Externa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rasporiazhenie-minprosveshcheniia-rossii-ot-28122020-n-r-193/" TargetMode="External"/><Relationship Id="rId3" Type="http://schemas.openxmlformats.org/officeDocument/2006/relationships/hyperlink" Target="https://sudact.ru/law/rasporiazhenie-minprosveshcheniia-rossii-ot-28122020-n-r-193/#BzsOb39SIZHB" TargetMode="External"/><Relationship Id="rId4" Type="http://schemas.openxmlformats.org/officeDocument/2006/relationships/hyperlink" Target="https://sudact.ru/law/pismo-minprosveshcheniia-rossii-ot-30062021-n-07-3586/#4lwMaN1xITlv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f-ot-10032009-n-06-224/" TargetMode="External"/><Relationship Id="rId3" Type="http://schemas.openxmlformats.org/officeDocument/2006/relationships/hyperlink" Target="https://sudact.ru/law/pismo-minobrnauki-rf-ot-10032009-n-06-224/prilozhenie/" TargetMode="External"/><Relationship Id="rId4" Type="http://schemas.openxmlformats.org/officeDocument/2006/relationships/hyperlink" Target="https://sudact.ru/law/pismo-minobrnauki-rossii-ot-01122015-n-vk-296907/" TargetMode="External"/><Relationship Id="rId5" Type="http://schemas.openxmlformats.org/officeDocument/2006/relationships/hyperlink" Target="https://sudact.ru/law/pismo-minobrnauki-rossii-ot-01122015-n-vk-296907/#9aICN2LuYDVT" TargetMode="External"/><Relationship Id="rId6" Type="http://schemas.openxmlformats.org/officeDocument/2006/relationships/hyperlink" Target="exp:412036" TargetMode="External"/><Relationship Id="rId7" Type="http://schemas.openxmlformats.org/officeDocument/2006/relationships/hyperlink" Target="https://sudact.ru/law/pismo-minobrnauki-rossii-ot-31032017-n-vk-106507/" TargetMode="External"/><Relationship Id="rId8" Type="http://schemas.openxmlformats.org/officeDocument/2006/relationships/hyperlink" Target="https://sudact.ru/law/pismo-minprosveshcheniia-rossii-n-07-6607-mvd-rossii/" TargetMode="External"/><Relationship Id="rId9" Type="http://schemas.openxmlformats.org/officeDocument/2006/relationships/hyperlink" Target="https://sudact.ru/law/pismo-minprosveshcheniia-rossii-n-07-6607-mvd-rossii/prilozhenie/" TargetMode="Externa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rikaz-minzdravsotsrazvitiia-rf-ot-13102010-n-878n/" TargetMode="External"/><Relationship Id="rId3" Type="http://schemas.openxmlformats.org/officeDocument/2006/relationships/hyperlink" Target="https://sudact.ru/law/pismo-minobrnauki-rossii-ot-26022016-n-07-834/" TargetMode="External"/><Relationship Id="rId4" Type="http://schemas.openxmlformats.org/officeDocument/2006/relationships/hyperlink" Target="https://sudact.ru/law/pismo-minobrnauki-rossii-ot-26022016-n-07-834/prilozhenie/" TargetMode="External"/><Relationship Id="rId5" Type="http://schemas.openxmlformats.org/officeDocument/2006/relationships/hyperlink" Target="https://sudact.ru/law/pismo-minobrnauki-rossii-ot-14042016-n-07-1545/" TargetMode="External"/><Relationship Id="rId6" Type="http://schemas.openxmlformats.org/officeDocument/2006/relationships/hyperlink" Target="https://sudact.ru/law/pismo-minobrnauki-rossii-ot-14042016-n-07-1545/#lMQMebhWIIrJ" TargetMode="External"/><Relationship Id="rId7" Type="http://schemas.openxmlformats.org/officeDocument/2006/relationships/hyperlink" Target="https://sudact.ru/law/pismo-minobrnauki-rossii-ot-28072016-n-07-3188/" TargetMode="External"/><Relationship Id="rId8" Type="http://schemas.openxmlformats.org/officeDocument/2006/relationships/hyperlink" Target="https://sudact.ru/law/pismo-minobrnauki-rossii-ot-28072016-n-07-3188/metodicheskie-rekomendatsii-po-mezhvedomstvennomu-vzaimodeistviiu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sudact.ru/law/federalnyi-zakon-ot-24061999-n-120-fz-ob/glava-i/statia-5/" TargetMode="External"/><Relationship Id="rId2" Type="http://schemas.openxmlformats.org/officeDocument/2006/relationships/hyperlink" Target="https://sudact.ru/law/pismo-minobrnauki-rossii-ot-24052017-n-07-2732/" TargetMode="External"/><Relationship Id="rId3" Type="http://schemas.openxmlformats.org/officeDocument/2006/relationships/hyperlink" Target="https://sudact.ru/law/pismo-minobrnauki-rossii-ot-24052017-n-07-2732/prilozhenie/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236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ОПРОСЫ РЕАЛИЗАЦИИ ОСНОВНЫХ НАПРАВЛЕНИЙ РАБОТЫ АНТИКРИЗИСНЫХ БРИГАД В ЛЕТНЕ-ОЗДОРОВИТЕЛЬНЫЙ ПЕРИОД 2024 ГОДА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7720" y="4572000"/>
            <a:ext cx="624852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Насонова Дина Викторовна </a:t>
            </a:r>
            <a:br>
              <a:rPr sz="1600"/>
            </a:br>
            <a:r>
              <a:rPr b="1" lang="ru-RU" sz="16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зав. отдела ГБУ ВО ЦПППиРД,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главный внештатный педагог-психолог системы образования Воронежской области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NB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Заголовок 2"/>
          <p:cNvSpPr/>
          <p:nvPr/>
        </p:nvSpPr>
        <p:spPr>
          <a:xfrm>
            <a:off x="317520" y="228600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Нарушение оперативности информирования, реагирования специалистов МАБ, образовательной организации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Кризисные ситуации происходят без участия одноклассников/одногруппников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Не влияет на динамику развития социально-коммуникационных связей и процессов в учебном коллективе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Работа с ближним кругом окружения участников кризисной ситуации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рименение дистанционных технологий взаимодействия с участниками образовательного процесса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СМЕРТЬ, ТРАВМИРОВАНИЕ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F86D-8447-4F0F-AFD2-F62E975F768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380880"/>
          <a:ext cx="8915400" cy="6396120"/>
        </p:xfrm>
        <a:graphic>
          <a:graphicData uri="http://schemas.openxmlformats.org/drawingml/2006/table">
            <a:tbl>
              <a:tblPr/>
              <a:tblGrid>
                <a:gridCol w="534960"/>
                <a:gridCol w="2378160"/>
                <a:gridCol w="6002280"/>
              </a:tblGrid>
              <a:tr h="114804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правления профилактической работы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казание психологической помощи несовершеннолетним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0 февраля 2015 г. N ВК-268/07 "О совершенствовании деятельности центров психолого-педагогической, медицинской и социальной помощи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истерства образования и науки Российской Федерации органам государственной власти субъектов Российской Федерации в сфере образования по совершенствованию деятельности центров психолого-педагогической, медицинской и социальной помощи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апреля 2018 г. N 07-2498 "О направлении методических рекомендаций" ("Методические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для педагогов-психологов и социальных педагогов образовательных организаций по проведению профилактической работы с несовершеннолетними, склонными к суицидальному поведению", "Методические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для педагогов-психологов и социальных педагогов по работе с родителями обучающихся образовательных организаций по проведению профилактической работы с несовершеннолетними, склонными к суицидальному поведению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Распоряжение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от 28 декабря 2020 г. N Р-193 "Об утверждении методических рекомендаций по системе функционирования психологических служб в общеобразовательных организациях" (вместе с "Системой функционирования психологических служб в общеобразовательных организациях. Методические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от 30 июня 2021 г. N 07-3586 "О направлении методического письма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проведению в образовательных организациях с обучающимися профилактических мероприятий, направленных на формирование у них позитивного мышления, принципов здорового образа жизни, предупреждение суицидального поведения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CE96-2048-4F04-B601-85412FA8042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380880"/>
          <a:ext cx="8991720" cy="6477120"/>
        </p:xfrm>
        <a:graphic>
          <a:graphicData uri="http://schemas.openxmlformats.org/drawingml/2006/table">
            <a:tbl>
              <a:tblPr/>
              <a:tblGrid>
                <a:gridCol w="539640"/>
                <a:gridCol w="2398680"/>
                <a:gridCol w="6053400"/>
              </a:tblGrid>
              <a:tr h="152100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правления профилактической работы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612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казание медицинской помощи несовершеннолетним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Приказ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здрава России от 14 июля 2003 г. N 307 "О повышении качества оказания лечебно-профилактической помощи беспризорным и безнадзорным несовершеннолетним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орядком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роведения вакцинопрофилактики беспризорных и безнадзорных несовершеннолетни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Приказ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здрава России от 5 ноября 2013 г. N 822н (в ред. от 21 февраля 2020 г.) "Об утверждении Порядка оказания медицинской помощи несовершеннолетним, в том числе в период обучения и воспитания в образовательных организациях»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0 февраля 2015 г. N ВК-268/07 "О совершенствовании деятельности центров психолого-педагогической, медицинской и социальной помощи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истерства образования и науки Российской Федерации органам государственной власти субъектов Российской Федерации в сфере образования по совершенствованию деятельности центров психолого-педагогической, медицинской и социальной помощи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здрава России от 25 мая 2017 г. N 15-2/10/2-3461 "О направлении методических рекомендаций" "Организация трехуровневой системы медико-социальной помощи детям в трудной жизненной ситуации"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D3F9-E0C6-4283-A55A-968A0379B22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380880"/>
          <a:ext cx="8935920" cy="6477120"/>
        </p:xfrm>
        <a:graphic>
          <a:graphicData uri="http://schemas.openxmlformats.org/drawingml/2006/table">
            <a:tbl>
              <a:tblPr/>
              <a:tblGrid>
                <a:gridCol w="536400"/>
                <a:gridCol w="2384640"/>
                <a:gridCol w="601488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04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Безнадзорные или беспризорны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азования России от 29 марта 2002 г. N 483/28-5 "Об организации работы по передаче детей на воспитание в семьи, организации работы по осуществлению опеки (попечительства) над детьми«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 декабря 2015 г. N ВК-2969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порядке признания несовершеннолетних и семей находящимися в социально опасном положении и организации с ними индивидуальной профилактической работы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апреля 2016 г. N АК-923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вопросам совершенствования индивидуальной профилактической работы с обучающимися с девиантным поведением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3 августа 2017 г. N ТС-702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совершенствованию межведомственного взаимодействия органов и учреждений системы профилактики безнадзорности и правонарушений несовершеннолетних по вопросам организации профилактической работы с семьями, находящимися в социально опасном положении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9275-93FD-42CF-A0E5-49BFC9D4889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380880"/>
          <a:ext cx="9067680" cy="6477120"/>
        </p:xfrm>
        <a:graphic>
          <a:graphicData uri="http://schemas.openxmlformats.org/drawingml/2006/table">
            <a:tbl>
              <a:tblPr/>
              <a:tblGrid>
                <a:gridCol w="544680"/>
                <a:gridCol w="2419200"/>
                <a:gridCol w="610380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04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Безнадзорные или беспризорны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7 августа 2018 г. N 07 5310 "О направлении Примерного порядка" (вместе с "Примерным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порядком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ежведомственного взаимодействия по вопросам выявления, предупреждения и устранения нарушений прав и законных интересов несовершеннолетни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N 07-6607, МВД России N 12/5351, Минобрнауки России N МН-11/1548 от 2 ноября 2020 г. "О межведомственном взаимодействии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б организации межведомственного взаимодействия и обмена информацией между образовательными организациями и органами внутренних дел о несовершеннолетних, в отношении которых проводится индивидуальная профилактическая работа, а также о выявленных несовершеннолетних "группы риска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исьмо Минпросвещения России от 12 ноября 2021 г. N 07-6757 "О направлении Методических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типовых формах и порядке взаимодействия органов и учреждений системы профилактики безнадзорности и правонарушений несовершеннолетних"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труда России от 12 апреля 2022 г. N 26-6/10/В-4751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организации профилактической работы с несовершеннолетними, склонными к совершению противоправных деяний, в организациях социального обслуживания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C9F4-AAA5-4841-97E8-04A44097431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0" y="380880"/>
          <a:ext cx="8991720" cy="6257880"/>
        </p:xfrm>
        <a:graphic>
          <a:graphicData uri="http://schemas.openxmlformats.org/drawingml/2006/table">
            <a:tbl>
              <a:tblPr/>
              <a:tblGrid>
                <a:gridCol w="539640"/>
                <a:gridCol w="2398680"/>
                <a:gridCol w="605340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252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Занимающиеся бродяжничеством или попрошайничеством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 декабря 2015 г. N ВК-2969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порядке признания несовершеннолетних и семей находящимися в социально опасном положении и организации с ними индивидуальной профилактической работы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апреля 2016 г. N АК-923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вопросам совершенствования индивидуальной профилактической работы с обучающимися с девиантным поведением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3 августа 2017 г. N ТС-702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совершенствованию межведомственного взаимодействия органов и учреждений системы профилактики безнадзорности и правонарушений несовершеннолетних по вопросам организации профилактической работы с семьями, находящимися в социально опасном положении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7 августа 2018 г. N 07 5310 "О направлении Примерного порядка" (вместе с "Примерным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/>
                        </a:rPr>
                        <a:t>порядком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ежведомственного взаимодействия по вопросам выявления, предупреждения и устранения нарушений прав и законных интересов несовершеннолетни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FC80-8EA4-4503-844F-26D1F04AD9F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5560" y="380880"/>
          <a:ext cx="8966160" cy="6477120"/>
        </p:xfrm>
        <a:graphic>
          <a:graphicData uri="http://schemas.openxmlformats.org/drawingml/2006/table">
            <a:tbl>
              <a:tblPr/>
              <a:tblGrid>
                <a:gridCol w="537840"/>
                <a:gridCol w="2392560"/>
                <a:gridCol w="6035760"/>
              </a:tblGrid>
              <a:tr h="235440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72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Занимающиеся бродяжничеством или попрошайничеством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N 07-6607, МВД России N 12/5351, Минобрнауки России N МН-11/1548 от 2 ноября 2020 г. "О межведомственном взаимодействии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б организации межведомственного взаимодействия и обмена информацией между образовательными организациями и органами внутренних дел о несовершеннолетних, в отношении которых проводится индивидуальная профилактическая работа, а также о выявленных несовершеннолетних "группы риска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исьмо Минпросвещения России от 12 ноября 2021 г. N 07-6757 "О направлении Методических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типовых формах и порядке взаимодействия органов и учреждений системы профилактики безнадзорности и правонарушений несовершеннолетних"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труда России от 12 апреля 2022 г. N 26-6/10/В-4751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организации профилактической работы с несовершеннолетними, склонными к совершению противоправных деяний, в организациях социального обслуживания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28C6-AC4A-4DF3-863D-3C8B55576A9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380880"/>
          <a:ext cx="8991720" cy="6477120"/>
        </p:xfrm>
        <a:graphic>
          <a:graphicData uri="http://schemas.openxmlformats.org/drawingml/2006/table">
            <a:tbl>
              <a:tblPr/>
              <a:tblGrid>
                <a:gridCol w="539640"/>
                <a:gridCol w="2398680"/>
                <a:gridCol w="605340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04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овершившие правонарушение, повлекшее применение мер административной ответственности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 декабря 2015 г. N ВК-2969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порядке признания несовершеннолетних и семей находящимися в социально опасном положении и организации с ними индивидуальной профилактической работы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апреля 2016 г. N АК-923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вопросам совершенствования индивидуальной профилактической работы с обучающимися с девиантным поведением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3 августа 2017 г. N ТС-702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совершенствованию межведомственного взаимодействия органов и учреждений системы профилактики безнадзорности и правонарушений несовершеннолетних по вопросам организации профилактической работы с семьями, находящимися в социально опасном положении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7 августа 2018 г. N 07 5310 "О направлении Примерного порядка" (вместе с "Примерным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/>
                        </a:rPr>
                        <a:t>порядком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ежведомственного взаимодействия по вопросам выявления, предупреждения и устранения нарушений прав и законных интересов несовершеннолетни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B59B-96A2-4EA3-95BC-4BF6FD3D71C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5560" y="457200"/>
          <a:ext cx="8966160" cy="4429080"/>
        </p:xfrm>
        <a:graphic>
          <a:graphicData uri="http://schemas.openxmlformats.org/drawingml/2006/table">
            <a:tbl>
              <a:tblPr/>
              <a:tblGrid>
                <a:gridCol w="537840"/>
                <a:gridCol w="2392560"/>
                <a:gridCol w="603576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732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овершившие правонарушение, повлекшее применение мер административной ответственности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N 07-6607, МВД России N 12/5351, Минобрнауки России N МН-11/1548 от 2 ноября 2020 г. "О межведомственном взаимодействии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б организации межведомственного взаимодействия и обмена информацией между образовательными организациями и органами внутренних дел о несовершеннолетних, в отношении которых проводится индивидуальная профилактическая работа, а также о выявленных несовершеннолетних "группы риска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исьмо Минпросвещения России от 12 ноября 2021 г. N 07-6757 "О направлении Методических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типовых формах и порядке взаимодействия органов и учреждений системы профилактики безнадзорности и правонарушений несовершеннолетних"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D043-2B62-4A8B-B99B-4D73A0FC734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600" y="380880"/>
          <a:ext cx="8979120" cy="6456600"/>
        </p:xfrm>
        <a:graphic>
          <a:graphicData uri="http://schemas.openxmlformats.org/drawingml/2006/table">
            <a:tbl>
              <a:tblPr/>
              <a:tblGrid>
                <a:gridCol w="538200"/>
                <a:gridCol w="2395440"/>
                <a:gridCol w="604548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504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овершившие правонарушение до достижения возраста, с которого наступает административная ответствен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 декабря 2015 г. N ВК-2969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порядке признания несовершеннолетних и семей находящимися в социально опасном положении и организации с ними индивидуальной профилактической работы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апреля 2016 г. N АК-923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вопросам совершенствования индивидуальной профилактической работы с обучающимися с девиантным поведением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3 августа 2017 г. N ТС-702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совершенствованию межведомственного взаимодействия органов и учреждений системы профилактики безнадзорности и правонарушений несовершеннолетних по вопросам организации профилактической работы с семьями, находящимися в социально опасном положении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7 августа 2018 г. N 07 5310 "О направлении Примерного порядка" (вместе с "Примерным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/>
                        </a:rPr>
                        <a:t>порядком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ежведомственного взаимодействия по вопросам выявления, предупреждения и устранения нарушений прав и законных интересов несовершеннолетни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Заголовок 2"/>
          <p:cNvSpPr/>
          <p:nvPr/>
        </p:nvSpPr>
        <p:spPr>
          <a:xfrm>
            <a:off x="393840" y="2819520"/>
            <a:ext cx="8534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Оперативное информирование о кризисных ситуациях членов МАБ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редусмотреть дублирующий состав на период отпусков специалистов МАБ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роанализировать эффективность информационной, профилактической работы в образовательной (-ых) организации (-ях)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одготовить пакет нормативно-правовых документов на 2024-2025 уч. год (приказ, приложения – план, состав, алгоритмы, внесение изменений в Положение и т.д.)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Актуализировать информацию на сайте (-ах) о МАБ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Организовать передачу информации об обучающихся, участниках кризисных ситуациях и требующих психолого-педагогическое сопровождение, переходящих в иные ОО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8B6B-51F4-464F-9A3C-B66CBD558E9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560" y="380880"/>
          <a:ext cx="8966160" cy="6477120"/>
        </p:xfrm>
        <a:graphic>
          <a:graphicData uri="http://schemas.openxmlformats.org/drawingml/2006/table">
            <a:tbl>
              <a:tblPr/>
              <a:tblGrid>
                <a:gridCol w="537840"/>
                <a:gridCol w="2392560"/>
                <a:gridCol w="6035760"/>
              </a:tblGrid>
              <a:tr h="284796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916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овершившие правонарушение до достижения возраста, с которого наступает административная ответствен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N 07-6607, МВД России N 12/5351, Минобрнауки России N МН-11/1548 от 2 ноября 2020 г. "О межведомственном взаимодействии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б организации межведомственного взаимодействия и обмена информацией между образовательными организациями и органами внутренних дел о несовершеннолетних, в отношении которых проводится индивидуальная профилактическая работа, а также о выявленных несовершеннолетних "группы риска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исьмо Минпросвещения России от 12 ноября 2021 г. N 07-6757 "О направлении Методических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типовых формах и порядке взаимодействия органов и учреждений системы профилактики безнадзорности и правонарушений несовершеннолетних"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85A5-4CED-49F0-B06A-3A6E7F2FF9F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6320" y="380880"/>
          <a:ext cx="8783640" cy="6477120"/>
        </p:xfrm>
        <a:graphic>
          <a:graphicData uri="http://schemas.openxmlformats.org/drawingml/2006/table">
            <a:tbl>
              <a:tblPr/>
              <a:tblGrid>
                <a:gridCol w="527040"/>
                <a:gridCol w="2342880"/>
                <a:gridCol w="5913720"/>
              </a:tblGrid>
              <a:tr h="284796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916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овершившие правонарушение до достижения возраста, с которого наступает административная ответствен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N 07-6607, МВД России N 12/5351, Минобрнауки России N МН-11/1548 от 2 ноября 2020 г. "О межведомственном взаимодействии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б организации межведомственного взаимодействия и обмена информацией между образовательными организациями и органами внутренних дел о несовершеннолетних, в отношении которых проводится индивидуальная профилактическая работа, а также о выявленных несовершеннолетних "группы риска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исьмо Минпросвещения России от 12 ноября 2021 г. N 07-6757 "О направлении Методических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типовых формах и порядке взаимодействия органов и учреждений системы профилактики безнадзорности и правонарушений несовершеннолетних"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909B-A2BB-4ED8-AC50-E8ABD133837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160" y="380880"/>
          <a:ext cx="9029520" cy="6507360"/>
        </p:xfrm>
        <a:graphic>
          <a:graphicData uri="http://schemas.openxmlformats.org/drawingml/2006/table">
            <a:tbl>
              <a:tblPr/>
              <a:tblGrid>
                <a:gridCol w="541440"/>
                <a:gridCol w="2409840"/>
                <a:gridCol w="607824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228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овершившие общественно опасное деяние и не подлежащие уголовной ответственности в связи с недостижением возраста, с которого наступает уголовная ответственность, или вследствие отставания в психическом развитии, не связанного с психическим расстройством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 декабря 2015 г. N ВК-2969/07 "О направлении методических рекомендаций" (вместе с "Методическими 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порядке признания несовершеннолетних и семей находящимися в социально опасном положении и организации с ними индивидуальной профилактической работы"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апреля 2016 г. N АК-923/07 "О направлении методических рекомендаций" (вместе с "Методическими 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рекомендациями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вопросам совершенствования индивидуальной профилактической работы с обучающимися с девиантным поведением"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июля 2016 г. N 07-3188 "О направлении методических рекомендаций" (вместе с Методическими 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рекомендациями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межведомственному взаимодействию органов и учреждений системы профилактики безнадзорности и правонарушений несовершеннолетних по вопросам оказания помощи осужденным несовершеннолетним, отбывающим наказания, не связанные с лишением свободы, и несовершеннолетним, освобождающимся из мест лишения свободы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3 августа 2017 г. N ТС-702/07 "О направлении методических рекомендаций" (вместе с "Методическими 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/>
                        </a:rPr>
                        <a:t>рекомендациями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совершенствованию межведомственного взаимодействия органов и учреждений системы профилактики безнадзорности и правонарушений несовершеннолетних по вопросам организации профилактической работы с семьями, находящимися в социально опасном положении"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9256-09E0-4EFF-98F2-C191F8D16C3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8160" y="380880"/>
          <a:ext cx="9029520" cy="6400800"/>
        </p:xfrm>
        <a:graphic>
          <a:graphicData uri="http://schemas.openxmlformats.org/drawingml/2006/table">
            <a:tbl>
              <a:tblPr/>
              <a:tblGrid>
                <a:gridCol w="541440"/>
                <a:gridCol w="2409840"/>
                <a:gridCol w="607824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572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овершившие общественно опасное деяние и не подлежащие уголовной ответственности в связи с недостижением возраста, с которого наступает уголовная ответственность, или вследствие отставания в психическом развитии, не связанного с психическим расстройством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7 августа 2018 г. N 07 5310 "О направлении Примерного порядка" (вместе с "Примерным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порядком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ежведомственного взаимодействия по вопросам выявления, предупреждения и устранения нарушений прав и законных интересов несовершеннолетни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исьмо Минпросвещения России от 12 ноября 2021 г. N 07-6757 "О направлении Методических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типовых формах и порядке взаимодействия органов и учреждений системы профилактики безнадзорности и правонарушений несовершеннолетних"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0777-4CF7-4938-8C03-2B8E353C924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560" y="380880"/>
          <a:ext cx="8966160" cy="6446880"/>
        </p:xfrm>
        <a:graphic>
          <a:graphicData uri="http://schemas.openxmlformats.org/drawingml/2006/table">
            <a:tbl>
              <a:tblPr/>
              <a:tblGrid>
                <a:gridCol w="537840"/>
                <a:gridCol w="2392560"/>
                <a:gridCol w="603576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180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9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овершившие общественно опасное деяние и не подлежащие уголовной ответственности в связи с недостижением возраста, с которого наступает уголовная ответственность, или вследствие отставания в психическом развитии, не связанного с психическим расстройством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7 августа 2018 г. N 07 5310 "О направлении Примерного порядка" (вместе с "Примерным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порядком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ежведомственного взаимодействия по вопросам выявления, предупреждения и устранения нарушений прав и законных интересов несовершеннолетни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исьмо Минпросвещения России от 12 ноября 2021 г. N 07-6757 "О направлении Методических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типовых формах и порядке взаимодействия органов и учреждений системы профилактики безнадзорности и правонарушений несовершеннолетних"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AC9B-0004-4F2C-ADAA-BF7173D7B33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2600" y="380880"/>
          <a:ext cx="8979120" cy="6257880"/>
        </p:xfrm>
        <a:graphic>
          <a:graphicData uri="http://schemas.openxmlformats.org/drawingml/2006/table">
            <a:tbl>
              <a:tblPr/>
              <a:tblGrid>
                <a:gridCol w="538200"/>
                <a:gridCol w="2395440"/>
                <a:gridCol w="604548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252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9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филактика суицидального поведения несовершеннолетних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8 января 2016 г. N 07-149 "О направлении методических рекомендаций про профилактике суицида«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апреля 2016 г. N АК-923/07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вопросам совершенствования индивидуальной профилактической работы с обучающимися с девиантным поведением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31 марта 2017 г. N ВК-1065/07 "О направлении методических материалов«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апреля 2018 г. N 07-2498 "О направлении методических рекомендаций" "Методические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для педагогов-психологов и социальных педагогов образовательных организаций по проведению профилактической работы с несовершеннолетними, склонными к суицидальному поведению«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апреля 2018 г. N 07-2498 "О направлении методических рекомендаций" "Методические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для педагогов-психологов и социальных педагогов по работе с родителями обучающихся образовательных организаций по проведению профилактической работы с несовершеннолетними, склонными к суицидальному поведению»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91FB-0D9A-4397-91AD-D93C98A03E3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380880"/>
          <a:ext cx="8991720" cy="6442200"/>
        </p:xfrm>
        <a:graphic>
          <a:graphicData uri="http://schemas.openxmlformats.org/drawingml/2006/table">
            <a:tbl>
              <a:tblPr/>
              <a:tblGrid>
                <a:gridCol w="539640"/>
                <a:gridCol w="2398680"/>
                <a:gridCol w="605340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504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9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филактика суицидального поведения несовершеннолетних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от 30 сентября 2020 г. N 07-5864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разработке типовой межведомственной программы по вопросам профилактики суицидального поведения у несовершеннолетни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от 30 октября 2020 г. N 07-6586 "О направлении информации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проведению в образовательных организациях субъектов Российской Федерации мероприятий для родителей (законных представителей) по формированию культуры профилактики суицидального поведения несовершеннолетних с освещением вопросов, касающихся психологических особенностей развития детей и подростков, факторов поведения, необходимости своевременного обращения к психологам и психиатрам в случаях неадекватного или резко изменившегося поведения несовершеннолетнего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N 07-6607, МВД России N 12/5351, Минобрнауки России N МН-11/1548 от 2 ноября 2020 г. "О межведомственном взаимодействии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б организации межведомственного взаимодействия и обмена информацией между образовательными организациями и органами внутренних дел о несовершеннолетних, в отношении которых проводится индивидуальная профилактическая работа, а также о выявленных несовершеннолетних "группы риска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8431-78DB-4DE4-A28E-9DBCECFB5F7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0" y="380880"/>
          <a:ext cx="9067680" cy="6477120"/>
        </p:xfrm>
        <a:graphic>
          <a:graphicData uri="http://schemas.openxmlformats.org/drawingml/2006/table">
            <a:tbl>
              <a:tblPr/>
              <a:tblGrid>
                <a:gridCol w="544680"/>
                <a:gridCol w="2419200"/>
                <a:gridCol w="6103800"/>
              </a:tblGrid>
              <a:tr h="320040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72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9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филактика суицидального поведения несовершеннолетних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Распоряжение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от 28 декабря 2020 г. N Р-193 "Об утверждении методических рекомендаций по системе функционирования психологических служб в общеобразовательных организациях" (вместе с "Системой функционирования психологических служб в общеобразовательных организациях. Методические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от 30 июня 2021 г. N 07-3586 "О направлении методического письма" (вместе с "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проведению в образовательных организациях с обучающимися профилактических мероприятий, направленных на формирование у них позитивного мышления, принципов здорового образа жизни, предупреждение суицидального поведения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C3AD-3E84-4B6C-AE73-F5C01311644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380880"/>
          <a:ext cx="8991720" cy="6500880"/>
        </p:xfrm>
        <a:graphic>
          <a:graphicData uri="http://schemas.openxmlformats.org/drawingml/2006/table">
            <a:tbl>
              <a:tblPr/>
              <a:tblGrid>
                <a:gridCol w="539640"/>
                <a:gridCol w="2398680"/>
                <a:gridCol w="605340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580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филактика жестокого обращения и насилия в отношении несовершеннолетних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0 марта 2009 г. N 06-224 "Об организации в субъектах Российской Федерации работы по профилактике жестокого обращения с детьми" (вместе с "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б организации в субъектах Российской Федерации работы по профилактике жестокого обращения с детьми"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 декабря 2015 г. N ВК-2969/07 "О направлении методических рекомендаций" (вместе с "Методическими 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рекомендациями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 порядке признания несовершеннолетних и семей находящимися в социально опасном положении и организации с ними индивидуальной профилактической работы"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7 декабря 2016 г. N 07-6255 "О методических ресурсах ЮНЕСКО по профилактике насилия и буллинга в образовательной среде«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31 марта 2017 г. N ВК-1065/07 "О направлении методических материалов«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N 07-6607, МВД России N 12/5351, Минобрнауки России N МН-11/1548 от 2 ноября 2020 г. "О межведомственном взаимодействии" (вместе с "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/>
                        </a:rPr>
                        <a:t>Рекомендациями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б организации межведомственного взаимодействия и обмена информацией между образовательными организациями и органами внутренних дел о несовершеннолетних, в отношении которых проводится индивидуальная профилактическая работа, а также о выявленных несовершеннолетних "группы риска"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3E0B-84AA-4EAE-A775-0150DB64CC4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5560" y="380880"/>
          <a:ext cx="8966160" cy="6518520"/>
        </p:xfrm>
        <a:graphic>
          <a:graphicData uri="http://schemas.openxmlformats.org/drawingml/2006/table">
            <a:tbl>
              <a:tblPr/>
              <a:tblGrid>
                <a:gridCol w="537840"/>
                <a:gridCol w="2392560"/>
                <a:gridCol w="6035760"/>
              </a:tblGrid>
              <a:tr h="230508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344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1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филактика самовольных уходов детей из семей и государственных организаций, содействию их розыска, а также проведения социально-реабилитационной работы с детьми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риказ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здравсоцразвития России от 13 октября 2010 г. N 878н (ред. от 05 октября 2011 г.) "Об утверждении перечня документов, необходимых для осуществления перевозки между субъектами Российской Федерации несовершеннолетних, самовольно ушедших из семей, детских домов, школ-интернатов, специальных учебно-воспитательных и иных детских учреждений, и условий перевозки«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6 февраля 2016 г. N 07-834 "О направлении методических рекомендаций" (вместе с "Методическими 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рекомендациями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работе с детьми, самовольно ушедшими из семей и государственных организаций, и профилактике таких уходов"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4 апреля 2016 г. N 07-1545 "О направлении порядка взаимодействия" (Примерный 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/>
                        </a:rPr>
                        <a:t>порядок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взаимодействия органов и учреждений системы профилактики безнадзорности и правонарушений несовершеннолетних, а также иных организаций по вопросам осуществления профилактики самовольных уходов детей из семей и государственных организаций, содействию их розыска, а также проведения социально-реабилитационной работы с детьми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/>
                        </a:rPr>
                        <a:t>Письмо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8 июля 2016 г. N 07-3188 "О направлении методических рекомендаций" (вместе с Методическими </a:t>
                      </a:r>
                      <a:r>
                        <a:rPr b="0" lang="ru-RU" sz="11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/>
                        </a:rPr>
                        <a:t>рекомендациями</a:t>
                      </a: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межведомственному взаимодействию органов и учреждений системы профилактики безнадзорности и правонарушений несовершеннолетних по вопросам оказания помощи осужденным несовершеннолетним, отбывающим наказания, не связанные с лишением свободы, и несовершеннолетним, освобождающимся из мест лишения свободы)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NB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Заголовок 2"/>
          <p:cNvSpPr/>
          <p:nvPr/>
        </p:nvSpPr>
        <p:spPr>
          <a:xfrm>
            <a:off x="228600" y="106668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7943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E9C5-1F64-4A55-B296-78EF7823D45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160" y="380880"/>
          <a:ext cx="8953560" cy="6477120"/>
        </p:xfrm>
        <a:graphic>
          <a:graphicData uri="http://schemas.openxmlformats.org/drawingml/2006/table">
            <a:tbl>
              <a:tblPr/>
              <a:tblGrid>
                <a:gridCol w="536400"/>
                <a:gridCol w="2389320"/>
                <a:gridCol w="6027840"/>
              </a:tblGrid>
              <a:tr h="369252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0" lang="ru-RU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460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2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филактика зацепинга среди несовершеннолетних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24 мая 2017 г. N 07-2732 "О направлении методических рекомендаций" (вместе с "Методическими 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по профилактике зацепинга среди несовершеннолетни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CA3B-B84F-4C94-BA60-47D117FBEC1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0" y="380880"/>
          <a:ext cx="8991720" cy="6477120"/>
        </p:xfrm>
        <a:graphic>
          <a:graphicData uri="http://schemas.openxmlformats.org/drawingml/2006/table">
            <a:tbl>
              <a:tblPr/>
              <a:tblGrid>
                <a:gridCol w="539640"/>
                <a:gridCol w="2398680"/>
                <a:gridCol w="6053400"/>
              </a:tblGrid>
              <a:tr h="2390760"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 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дивидуальная профилактическая работа, предусмотренная </a:t>
                      </a:r>
                      <a:r>
                        <a:rPr b="1" lang="ru-RU" sz="13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частью 1 статьи 5</a:t>
                      </a: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 Федерального закона от 24 июня 1999 г. N 120-ФЗ "Об основах системы профилактики безнадзорности и правонарушений несовершеннолетних"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именование и реквизиты методических рекомендаций</a:t>
                      </a:r>
                      <a:endParaRPr b="0" lang="en-US" sz="13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360">
                <a:tc>
                  <a:txBody>
                    <a:bodyPr lIns="47520" rIns="47520" tIns="63360" bIns="63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3.</a:t>
                      </a:r>
                      <a:endParaRPr b="0" lang="en-US" sz="2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филактика экстремизма и терроризм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63360" bIns="6336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1 мая 2016 г. N 09-1063 "О направлении материалов" (вместе с "Методическими рекомендациями по внедрению программ психолого-педагогического сопровождения детей из семей участников религиозно-экстремистских объединений и псевдорелигиозных сект деструктивной направленности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просвещения России N 07-6607, МВД России N 12/5351, Минобрнауки России N МН-11/1548 от 2 ноября 2020 г. "О межведомственном взаимодействии" (вместе с "</a:t>
                      </a:r>
                      <a:r>
                        <a:rPr b="0" lang="ru-RU" sz="12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Рекомендациям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об организации межведомственного взаимодействия и обмена информацией между образовательными организациями и органами внутренних дел о несовершеннолетних, в отношении которых проводится индивидуальная профилактическая работа, а также о выявленных несовершеннолетних "группы риска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Письмо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Минобрнауки России от 16 июня 2016 г. N 09-1467 "О направлении материалов" ("Методические </a:t>
                      </a:r>
                      <a:r>
                        <a:rPr b="0" lang="ru-RU" sz="1200" spc="-1" strike="noStrike">
                          <a:solidFill>
                            <a:srgbClr val="3c5f87"/>
                          </a:solidFill>
                          <a:latin typeface="Arial"/>
                        </a:rPr>
                        <a:t>рекомендации</a:t>
                      </a: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для педагогических работников по профилактике проявлений терроризма и экстремизма в образовательных организациях"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NB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5" name="Заголовок 2"/>
          <p:cNvSpPr/>
          <p:nvPr/>
        </p:nvSpPr>
        <p:spPr>
          <a:xfrm>
            <a:off x="24120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8-473-221-00-93 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РАПИВИНА ВАЛЕНТИНА ФЕДОРОВНА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8-473-234-38-72 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ИНА АНАСТАСИЯ ВАЛЕРЬЕВНА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8-952-951-62-1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СОНОВА ДИНА ВИКТОРОВНА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NB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Заголовок 2"/>
          <p:cNvSpPr/>
          <p:nvPr/>
        </p:nvSpPr>
        <p:spPr>
          <a:xfrm>
            <a:off x="228600" y="106668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ПС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-25560" y="1282680"/>
            <a:ext cx="4462560" cy="5448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457200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019920" y="1384200"/>
            <a:ext cx="3324240" cy="5276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2743200" y="1384200"/>
            <a:ext cx="3809880" cy="5276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NB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Заголовок 2"/>
          <p:cNvSpPr/>
          <p:nvPr/>
        </p:nvSpPr>
        <p:spPr>
          <a:xfrm>
            <a:off x="228600" y="106668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АВЛЕНИЕ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3"/>
          <a:stretch/>
        </p:blipFill>
        <p:spPr>
          <a:xfrm>
            <a:off x="-533520" y="1384200"/>
            <a:ext cx="38862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NB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Заголовок 2"/>
          <p:cNvSpPr/>
          <p:nvPr/>
        </p:nvSpPr>
        <p:spPr>
          <a:xfrm>
            <a:off x="228600" y="106668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писка –  ПРИЛОЖЕНИЕ 2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76320" y="1471680"/>
            <a:ext cx="6026040" cy="3962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6242040" y="1395360"/>
            <a:ext cx="28893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NB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Заголовок 2"/>
          <p:cNvSpPr/>
          <p:nvPr/>
        </p:nvSpPr>
        <p:spPr>
          <a:xfrm>
            <a:off x="241200" y="152388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-228600" y="1371600"/>
            <a:ext cx="84582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NB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Заголовок 2"/>
          <p:cNvSpPr/>
          <p:nvPr/>
        </p:nvSpPr>
        <p:spPr>
          <a:xfrm>
            <a:off x="241200" y="152388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ОКИ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-152280" y="1523880"/>
            <a:ext cx="3903480" cy="560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3751200" y="1523880"/>
            <a:ext cx="39578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48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NB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Заголовок 2"/>
          <p:cNvSpPr/>
          <p:nvPr/>
        </p:nvSpPr>
        <p:spPr>
          <a:xfrm>
            <a:off x="241200" y="152388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ОКИ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buClr>
                <a:srgbClr val="d25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76320" y="1471680"/>
            <a:ext cx="5562360" cy="5081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2590920" y="1422360"/>
            <a:ext cx="65530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</dc:creator>
  <dc:description/>
  <dc:language>en-US</dc:language>
  <cp:lastModifiedBy>user</cp:lastModifiedBy>
  <cp:lastPrinted>2020-06-04T11:35:26Z</cp:lastPrinted>
  <dcterms:modified xsi:type="dcterms:W3CDTF">2024-05-22T07:07:08Z</dcterms:modified>
  <cp:revision>341</cp:revision>
  <dc:subject/>
  <dc:title>Профилактика жестокости и агрессивности в школьной среде и способы ее преодо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